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FBFB-40A9-42C4-9BDA-A4EABBD53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FCA8-12CB-424A-8F02-24D3D065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64A0-7AA8-4046-BBA0-40C8EF50C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CDF1-2DE4-41B7-B6CB-C2441455C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970B-923E-4419-A2F0-58EC6E1AE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369C-0761-4683-93D2-6D50A376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81D7D-923F-4BB1-8340-903A7D4F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26F6-1FD0-4FF4-AF92-7141931B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CB14-6E2E-472A-BB80-B39A9FA0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844F8-5437-4453-BBFE-5C48E9B0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E658C-0F0D-4A38-8E6C-70A477A7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FBB2-1FA0-40FC-A442-2A1EAE61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8E4A-CC3A-4C85-BC6C-DC16E15C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65B4-4250-4A63-89C7-5A35842E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6D5C-0260-4553-89A4-87930265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3212-2D98-4584-A84B-24BFD3727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DF52-A952-4D42-84D5-4C6274405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A69C2-68CB-4B0B-9800-E486124DE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A31E2-BB69-4005-8E40-7714C448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09071-4E98-477B-97C6-AE2FAC43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B2D51-0936-4BCD-A287-2BD28FA1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0E6F0-975A-4D66-9C78-F8DE3AEF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DB3D-52B5-4CF3-80CF-C55B45CF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058FC-AC2D-4DBC-A502-15EBC72E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B07C4-2EAF-45AE-8364-49A1259A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80163-61DC-4587-899B-97719FE8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50511-7575-4FAF-A665-D53707D9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052E0-CD1D-4ACA-B634-74DC4637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57D4F-800F-4CD9-B5F7-D9BC0494C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29D20-0D02-4875-BDBD-1DF221754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09B8E-339E-45E9-947B-ED8320DB8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93365-0C19-43BD-A5EF-E4C4EF00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2A0DA-5AE5-4585-9AEA-B16847F9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C098-DC4B-496A-BBD0-F3A09215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53BCB-DC87-4F82-B871-C07FDC20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D5D4A-601E-494B-A213-3BD527AC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BD98C-D805-475D-B3AC-5DE95A3A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5F339-D694-45F6-A130-F898BA60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F7CBE-63B7-4EDF-BE18-27A310FC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5875C-9EF6-4347-A4B8-DA27BDA2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78D8E-9F98-4274-AF17-04E5E9D3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2EECB-4598-4D11-8D2D-45644136A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5C36D-7F7E-46A3-9E21-62A1D1BF6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EEC3-B79C-43B0-BE86-162DCE01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049F-93B0-4FD2-9953-C8174410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5977-4D32-40BD-9FC0-353265B5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49DB-E38F-4A85-8E03-1B3802A1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E179-23FA-45B3-849C-9BC66A47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CE5BB2-9232-4FCE-A5A9-FC59CC63692C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AEE004-4B70-4704-95C4-C7402F8F819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57CDFD-5ACB-4DCC-92D1-9DCF5EF08AD9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870DFC-8B95-49AF-B462-340D13A3E947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E84C1B-013F-46D7-A740-1881801B4D4F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33BE24-1C17-421B-8FA4-79376C167D0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349A0F-A7EE-487E-B75E-A54881ADABCA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47E3D2-9AA6-46F7-AF44-0564E16562E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iki.esipfed.org/index.php/GEOSS_AIP_AQ_Scenario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7888320" cy="1957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Ellsworth LeDrew (UIC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Gary Foley (UIC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Jay Pearlman (UIC and ADC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Hans-Peter Plag (UIC and ADC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Rudolf Husar (UIC and ADC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avid McCabe (ADC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genda A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9:00 Welcome and Introduction  Ellsworth LeDrew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9:15 Overview by UIC Gary Foley and Ellsworth LeDrew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9:45 Overview by ADC Jay Pearlman and Hans-Peter Plag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0:15 Break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(suggest 20 minute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10:45 Scenario Introduction by David McCabe: The GEOSS AIP Air Quality Scenari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11:25 Development of 'working groups‘ by Rudolf Husar: Users, Applications and the Community of Practice for the Air Quality Scenario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Xx:xx Lunch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genda: P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3:00 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'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orking group' interactio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5:00 Interval assessment Gary Foley Chai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5:30 break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6:00 Re-engage 'working groups'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7:00 Plenary Assessment Ellsworth LeDrew Chai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8:00 End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sour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wiki.esipfed.org/index.php/GEOSS_AIP_AQ_Scenari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udolf B. Husar, (rhusar@me.wustl.edu)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ofessor and Direct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enter for Air Pollution Impact and Trend Analysis (CAPITA)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ashington University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 Brookings Drive, Box 112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. Louis, MO 63130314 935 6099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avid McCabe (McCabe.David@epamail.epa.gov)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AAS Science &amp; Technology Policy Fellow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US EPA, Office of Research and Development (8104R)1200 Pennsylvania Ave. NW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ashington, DC 20460202 564 0016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Gary Foley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bjectiv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termine User Requirements for one of the GEO Societal Benefit Are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aluate the Structure of the Architecture and Data Committee (registry etc) to provide these data in operational environ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rs range from data collectors, to modelers, to synthesis analysts, to policy wonk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ssess this workshop concept as a model for future workshops on other SBAs or components of SB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ncep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verview of one aspect of an SBA – Air Quality (one theme of an upcoming Call for Participation for ADC/UIC activity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reak individual groups into acto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ach actor assume a role in the proc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ata collection analysis, quality contro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odelle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cenario Builde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olicy analys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National political decision make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ternational political decision make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itizen affected by proces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ncept (con’t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ach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rol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dentifies what data is required at that lev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termines how data should be packaged by GE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termines what is the customer base, what is the ‘chain of information’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cludes data type, format, unit conversion, time resolution, quality control process, required fields, optional fields (Hans-Peter Plag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OSS User Needs and System Performance Utility: Functional Specifications and Database Structure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ncept (con’t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am works through possible decision process to determine whether, if GEO provided the information, the system will work as requir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duct will be entries in tables and a narrative of proces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 product would be a list of best practices, one or more of which will be entered into the GEO Best Practice Wiki (wiki.ieee-earth.org) 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4T19:58:12Z</dcterms:created>
  <dc:creator>Ellsworth LeDrew</dc:creator>
  <dc:description/>
  <dc:language>en-US</dc:language>
  <cp:lastModifiedBy>Administrator</cp:lastModifiedBy>
  <dcterms:modified xsi:type="dcterms:W3CDTF">2008-05-09T16:22:51Z</dcterms:modified>
  <cp:revision>14</cp:revision>
  <dc:subject/>
  <dc:title>UIC/ADC Air Quality Scenario Whorkshop</dc:title>
</cp:coreProperties>
</file>